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4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62F-2774-441F-A399-CCA8F23E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E1C-E18B-447D-9832-50B12AF7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DEE-9068-4DC8-A1D2-5E1CE7C9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74C-2D4B-4717-9EE8-BEF24B37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BBA-0731-4E9A-AD92-10768558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3C9-93C7-41A1-A455-3B91AEC7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22A-8D20-4F62-9D91-E5FBF8F3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DD2-986C-48D9-8F05-D6C72404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568-F41F-4962-8A19-367DC0D6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A70-EAAF-4DD3-8649-E4F5EDBD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474-FF2F-4599-9A69-2A3C0C8E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3ED-DF4A-42FB-82B6-BDEA01B2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6ABB-0DEE-47C9-B94E-F914C5F4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Med%20diet.mp3" TargetMode="External"/><Relationship Id="rId2" Type="http://schemas.openxmlformats.org/officeDocument/2006/relationships/hyperlink" Target="file:///Med%20diet.mp3" TargetMode="External"/><Relationship Id="rId3" Type="http://schemas.openxmlformats.org/officeDocument/2006/relationships/hyperlink" Target="file:///Med%20diet.mp3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using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about key tapas d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say which ones sound interesting or g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listen to a description of food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read an opinion about the differences between English and Spanish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try some 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2360" y="4724280"/>
            <a:ext cx="61214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gamb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2769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patatas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248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2360" y="4149720"/>
            <a:ext cx="63356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aliol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3959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89000"/>
            <a:ext cx="2952720" cy="55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en salsa) ali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12536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ve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 básica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siste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on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umo de l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eite de o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4149720"/>
            <a:ext cx="65516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(en salsa)  bra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92360" y="4149720"/>
            <a:ext cx="65516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Los boquerones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05360"/>
            <a:ext cx="770400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berenjenas con miel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411280" y="3860640"/>
            <a:ext cx="2087640" cy="15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1798560" cy="1501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804000" y="2276640"/>
            <a:ext cx="2089080" cy="1554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232000" cy="148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484360" y="2205000"/>
            <a:ext cx="1944720" cy="156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395280" y="206064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804000" y="549360"/>
            <a:ext cx="1943280" cy="1458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4572000" y="549360"/>
            <a:ext cx="2016000" cy="132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2340000" y="33336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684360" y="260280"/>
            <a:ext cx="1079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260280"/>
            <a:ext cx="8280360" cy="62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cuchar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panish die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- contains lots of suga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- is unhealt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- contains lots of suga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- is quite healt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The English and Americans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- have more heart problem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- are health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- are less overweight than the Spanis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- eat more v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diterranean diet includes more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- dairy product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- fruit and ve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- cheese and potato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- meat and b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The Mediterranean diet includes more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- past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- cereal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- eg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 - f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95640" y="1989000"/>
            <a:ext cx="4895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Las tapa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27360"/>
            <a:ext cx="58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ShockwaveFlash1"/>
          <p:cNvGraphicFramePr/>
          <p:nvPr/>
        </p:nvGraphicFramePr>
        <p:xfrm>
          <a:off x="1835280" y="981000"/>
          <a:ext cx="63370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81000"/>
                    <a:ext cx="633708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100440"/>
            <a:ext cx="566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ShockwaveFlash1"/>
          <p:cNvGraphicFramePr/>
          <p:nvPr/>
        </p:nvGraphicFramePr>
        <p:xfrm>
          <a:off x="1042920" y="765000"/>
          <a:ext cx="63374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65000"/>
                    <a:ext cx="6337440" cy="532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54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ShockwaveFlash1"/>
          <p:cNvGraphicFramePr/>
          <p:nvPr/>
        </p:nvGraphicFramePr>
        <p:xfrm>
          <a:off x="1692360" y="981000"/>
          <a:ext cx="61196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81000"/>
                    <a:ext cx="6119640" cy="446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4724280"/>
            <a:ext cx="720072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vino blanc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2166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chorizo en vino ti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4149720"/>
            <a:ext cx="61214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gazpach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 tortilla espa</a:t>
            </a:r>
            <a:r>
              <a:rPr b="0" lang="en-GB" sz="8000" spc="-1" strike="noStrike">
                <a:solidFill>
                  <a:srgbClr val="ff0000"/>
                </a:solidFill>
                <a:latin typeface="Arial"/>
                <a:ea typeface="Arial"/>
              </a:rPr>
              <a:t>ñ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4824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croque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4751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albondig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Los calama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0958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01:59Z</dcterms:created>
  <dc:creator>Owner1</dc:creator>
  <dc:description/>
  <dc:language>en-US</dc:language>
  <cp:lastModifiedBy>Owner1</cp:lastModifiedBy>
  <dcterms:modified xsi:type="dcterms:W3CDTF">2008-11-10T07:59:23Z</dcterms:modified>
  <cp:revision>7</cp:revision>
  <dc:subject/>
  <dc:title>Slide 1</dc:title>
</cp:coreProperties>
</file>